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CF41-131F-46CB-8EA4-0DCEB9A39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minorities in Czech, not all given political opportunities…lots of Germans in this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s and slovaks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jews living in czech, many were killed during wwii…nazi concentration camp north of pr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 heavy industry in czech, like all communism starts out well then people become sick of it… czechs and slovaks no like each other but are going to rebel for political freedom in 1980s…1993 peacfully sepearate into two different countr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percentage of non-religious pp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of tourists in czech, prague is beautiful with old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 bc much of the town was not destroyed by ww1 and 2 and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ude the people were, story of the taxi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Bridge, muscicians, show vide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15176-5A20-446A-890B-7C0828714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10B13-CEA8-473C-BC5B-4D7023062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EFDA8-FE76-48E4-BFF3-49744AE95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4A531-9661-4A08-B1C1-130461E24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B204-FB47-47AF-AA9B-E17B5DC0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75DA3-F4A0-4333-B831-B3C654CEE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7EC6C-757C-4047-9325-F5326200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A61B-41E4-4B8E-94BF-D188D10A5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E8831-4574-4ECD-994D-5DDA2E4AA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BB9C-2528-4BAA-81AF-C23B8EA56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DE95C-658B-4EF8-96CC-3B6EF010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5AF1-623B-46A4-A732-2B0DD953E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EEDD-5487-4B9C-83AA-6E8224113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zech Republic</a:t>
            </a:r>
            <a:endParaRPr b="0" lang="en-US" sz="4000" spc="-1" strike="noStrike">
              <a:solidFill>
                <a:srgbClr val="000000"/>
              </a:solidFill>
              <a:latin typeface="Arial"/>
            </a:endParaRPr>
          </a:p>
        </p:txBody>
      </p:sp>
      <p:sp>
        <p:nvSpPr>
          <p:cNvPr id="49" name="PlaceHolder 2"/>
          <p:cNvSpPr>
            <a:spLocks noGrp="1"/>
          </p:cNvSpPr>
          <p:nvPr>
            <p:ph type="subTitle"/>
          </p:nvPr>
        </p:nvSpPr>
        <p:spPr>
          <a:xfrm>
            <a:off x="685800" y="1066320"/>
            <a:ext cx="7772400" cy="39625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Pragu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 Czech</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t = Parliamentary Republic</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 approx 10 million</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rules over by various empires until 1918.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zech Histor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WWI, Czechoslovakia esta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Hitler alligns with Slovakia and invades Czech (concentration c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45, Americans and Soviets free Prag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sm 1948-198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3 end of Czechoslovak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phy/Climate/Peopl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e climate: hot summers, cold winters (inland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9% non-religi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ary democ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tandard of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zech Republic Toda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5:17:10Z</dcterms:created>
  <dc:creator>tmoore</dc:creator>
  <dc:description/>
  <dc:language>en-US</dc:language>
  <cp:lastModifiedBy>tmoore</cp:lastModifiedBy>
  <dcterms:modified xsi:type="dcterms:W3CDTF">2008-01-30T17:04:35Z</dcterms:modified>
  <cp:revision>8</cp:revision>
  <dc:subject/>
  <dc:title>Czech Republic</dc:title>
</cp:coreProperties>
</file>